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17.wmf" ContentType="image/x-wmf"/>
  <Override PartName="/ppt/media/image14.wmf" ContentType="image/x-wmf"/>
  <Override PartName="/ppt/media/image9.wmf" ContentType="image/x-wmf"/>
  <Override PartName="/ppt/media/image1.jpeg" ContentType="image/jpeg"/>
  <Override PartName="/ppt/media/image15.jpeg" ContentType="image/jpeg"/>
  <Override PartName="/ppt/media/image3.wmf" ContentType="image/x-wmf"/>
  <Override PartName="/ppt/media/image16.wmf" ContentType="image/x-wmf"/>
  <Override PartName="/ppt/media/image5.gif" ContentType="image/gif"/>
  <Override PartName="/ppt/media/image8.wmf" ContentType="image/x-wmf"/>
  <Override PartName="/ppt/media/image13.wmf" ContentType="image/x-wmf"/>
  <Override PartName="/ppt/media/image12.png" ContentType="image/png"/>
  <Override PartName="/ppt/media/image7.wmf" ContentType="image/x-wmf"/>
  <Override PartName="/ppt/media/image10.wmf" ContentType="image/x-wmf"/>
  <Override PartName="/ppt/media/image4.jpeg" ContentType="image/jpeg"/>
  <Override PartName="/ppt/media/image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2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ftr" idx="2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 type="sldNum" idx="2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F9F10-0CA1-4451-9DA3-B5F6141FB08A}" type="slidenum">
              <a:rPr b="0" lang="en-AU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11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959A5-292A-47A4-8620-C870CB2EC79D}" type="datetime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1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00FE1-A207-4440-91B4-F548303A5B7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84400" y="708120"/>
            <a:ext cx="4535280" cy="3402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42840" y="4320720"/>
            <a:ext cx="50184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11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985D5-4057-4E41-9737-6C8B3842A2BC}" type="datetime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1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D830C-5A7A-43EF-841B-CC314B6A947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84400" y="708120"/>
            <a:ext cx="4535280" cy="3402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42840" y="4320720"/>
            <a:ext cx="50184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16" name="Date Placeholder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20732-DC7F-46EF-8F5B-8EB9291EB346}" type="datetime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FAFC2-7E51-4BFA-BE2E-1A757C75F10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11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B2E35-A2D3-4D9C-AAF1-A749154D19FB}" type="datetime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1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46A5D-0B7F-47EE-8547-C653DFA9D79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84400" y="708120"/>
            <a:ext cx="4535280" cy="3402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42840" y="4320720"/>
            <a:ext cx="50184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7CC81-1E13-414B-B578-44B1C8E0C4D3}" type="slidenum">
              <a:rPr b="0" lang="en-AU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84400" y="708120"/>
            <a:ext cx="4535280" cy="3402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42840" y="4320720"/>
            <a:ext cx="50184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8B902-F20E-4A45-AAF9-4A2B89220498}" type="slidenum">
              <a:rPr b="0" lang="en-AU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84400" y="708120"/>
            <a:ext cx="4535280" cy="3402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42840" y="4320720"/>
            <a:ext cx="50184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55536-4F49-4808-8969-B4E721E22FE5}" type="slidenum">
              <a:rPr b="0" lang="en-AU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84400" y="708120"/>
            <a:ext cx="4535280" cy="3402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42840" y="4320720"/>
            <a:ext cx="50184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33" name="Date Placeholder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C1312-4C32-4507-A757-8E17457F0D39}" type="datetime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E6CCD-BB5B-438B-AB92-76C5C4AF74D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F23E6-92D1-4EA0-9002-73BC5573EAF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575FE-5556-4524-A5AF-0CD031E6091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06D3D-90D8-47B9-9331-C391D41D5BE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5931E-9A97-4C4C-A69B-FED2C45A513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8B5D3-1058-4961-85C0-0060B1B480C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74F4D-79F3-4E47-AC01-8C56667CEEA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A2970-390A-4781-B745-601AD0B4C7D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2EA39-74C3-4FA9-B4DC-23441F5F534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F690A-40E7-49FC-8AE2-6E852D5973F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076F8-AF50-4DE6-8B8A-67E22F4DFED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35A99-05B0-4A7D-94E1-E88514C8534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4F6C8-04D7-4369-8920-A24D22C0252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35A85-39EB-410D-B43C-8523936188C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9AD49-F4B0-4AA5-8149-36669218364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6" name="Date Placeholder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B109D-2BE2-412D-AADA-1130609E4C83}" type="datetime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48CDF-11CA-46E9-9664-63A52C22DFC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11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2A953-30CA-4F24-B04E-1807C9758136}" type="datetime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1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7B377-0545-4548-A018-71E0AA0364F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84400" y="708120"/>
            <a:ext cx="4535280" cy="3402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42840" y="4320720"/>
            <a:ext cx="50184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04" name="Date Placeholder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279EA-1CAB-4938-8CE6-ABD409B4756C}" type="datetime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5AAE4-26AE-4CD7-AEBE-88F5C38B82D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681B-C1D5-4A89-8A1F-D67F1D141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B688-D4AF-4B30-B627-E57AF6863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F554-72F1-4D33-B213-0B05AF9BB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75A2-D387-4CC6-A1E5-A4CD730B1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123A1-9847-4EE4-8A92-0FA3D2E5B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247A8-AF95-4741-86FA-95AC395D2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94B65-11C4-4BF7-9240-FB008C140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0E92D-BE90-4BC0-B4FC-864F5FD1A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E9999-9374-4D79-811A-E948352C6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469B9-4DFF-4A52-9BF3-7755E427B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D8486-E300-4532-872E-E57BBBF62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216D-E2DB-47CB-A0E1-2A3512192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DBF79-C925-4852-888D-5B77B47D2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69C33-57E4-4B0F-BB77-A574BC76E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C630D-7A56-4880-84F4-BB9C34B6D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601C3-0476-460F-A574-FC36E96E3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F17B7-8EF8-420D-8ADF-AA89F5233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F50C8-778C-4940-91C4-FBFEAF200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9AF0B-5630-46F7-936B-C1FD7C386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A885D-E40F-4D31-86B4-D70BA3656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A9499-A8B0-4F1C-915F-246514A3A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6B656-F9DC-45DC-8CD9-A8C93C63A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EEF2-EBA8-4D4D-8BEA-458145C3C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DDDF8-7973-4AF3-81DD-4BBB8EC0C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93A20-EC89-4D03-9885-223AB1B46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8773B-AA97-44BD-B616-FFDD265D4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F2F65-CE6C-4BF9-8748-9CB896A90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FD957-D44D-4966-AC0D-E79D9D827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D6613-6355-4E59-91F7-0192AC6E6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2AD62-095D-4DE9-A65B-BC0A97C52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FAABF-AFB8-43B0-A373-75231E2E7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ABE95-C4B6-453F-B057-8EF446753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FAC20-1B27-4E8E-9483-E05206A79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9AA2-659D-4AF8-806A-53B3B9349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8382D-2E93-4203-A1DB-088A0A638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906D9-B37A-4711-A089-E4BE8E287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8E03E-5E4E-4951-9DC2-69DB44D65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67425-D48D-4D71-AA83-1A4A4FCB0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012BD-5542-4E5F-8951-94FCC5C01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90B99-D925-4440-BB4C-0C03520C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8FCE3-10D5-4999-A6AD-BF69A09C3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39D9A-D2DE-417F-B065-59B603BE0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6B18C-219E-46A4-A21F-5168CDC64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157A-56DE-47F8-BAEB-20A9D15DC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DEBF-7F32-4C2F-A948-FF24B7695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DF12-2C02-4692-9A09-3439554F4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73EC75F-9853-4FD2-802B-9E76581DD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272B59F-3F89-4FFC-9306-EA11CA89A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99CB8B9-EE00-4383-A7AC-46065A933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58199BE-1BF7-472D-B59A-9A5AC17E5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C72F9F9-82F8-4860-B63E-701369468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19BE393-A529-4210-B8E1-80975350E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55F212E-E9D6-4A9D-9821-1D818CE0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74A5-3A0E-4BC5-880D-2C9AC57C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3361E93-B189-470E-8346-764C4F16B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F919D62-DDB9-4F3A-AE17-49362F3B4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B686107-E64C-4684-82E8-E32CE290D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D6D4115-D3A9-414D-A8CE-828B0F3F1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5EC89A6-93E8-475E-9D49-34840A27E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BE18-A8A5-4301-917F-DFE3E924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12B86-2AE8-450A-9523-93A805948FA5}" type="slidenum">
              <a:rPr b="0" lang="en-AU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AF4E2-99F1-4A11-9B6F-857637A209E9}" type="slidenum">
              <a:rPr b="0" lang="en-AU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59D80-2B42-4C50-9B9A-EF8E4006A38D}" type="slidenum">
              <a:rPr b="0" lang="en-AU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logo"/>
          <p:cNvPicPr/>
          <p:nvPr/>
        </p:nvPicPr>
        <p:blipFill>
          <a:blip r:embed="rId3"/>
          <a:stretch/>
        </p:blipFill>
        <p:spPr>
          <a:xfrm>
            <a:off x="214200" y="214200"/>
            <a:ext cx="2071800" cy="15955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39E07-C36A-46A7-8DBD-03E5617D2A30}" type="slidenum">
              <a:rPr b="0" lang="en-AU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logo"/>
          <p:cNvPicPr/>
          <p:nvPr/>
        </p:nvPicPr>
        <p:blipFill>
          <a:blip r:embed="rId3"/>
          <a:stretch/>
        </p:blipFill>
        <p:spPr>
          <a:xfrm>
            <a:off x="0" y="0"/>
            <a:ext cx="1979640" cy="152388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6" descr="logo"/>
          <p:cNvPicPr/>
          <p:nvPr/>
        </p:nvPicPr>
        <p:blipFill>
          <a:blip r:embed="rId3"/>
          <a:stretch/>
        </p:blipFill>
        <p:spPr>
          <a:xfrm>
            <a:off x="0" y="0"/>
            <a:ext cx="1979640" cy="152388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B7D8F-938B-4C87-A478-CD8E507B3F81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Optima LT Std"/>
                <a:ea typeface="宋体"/>
              </a:rPr>
              <a:t>Future Research Leaders Progra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Optima LT Std"/>
                <a:ea typeface="宋体"/>
              </a:rPr>
              <a:t>Modu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Optima LT Std"/>
                <a:ea typeface="宋体"/>
              </a:rPr>
              <a:t>Financial, Resource and Risk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DF477-7454-4EC9-9B00-4AF311330F6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71360" y="1357200"/>
            <a:ext cx="5786280" cy="117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c00000"/>
                </a:solidFill>
                <a:latin typeface="Optima LT Std"/>
                <a:ea typeface="宋体"/>
              </a:rPr>
              <a:t>Balance She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13840" y="2928600"/>
            <a:ext cx="8001000" cy="14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75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Optima LT Std"/>
                <a:ea typeface="宋体"/>
              </a:rPr>
              <a:t>Assets – Liabilities = Equ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983E1-D457-4742-88DB-B0424D8594F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356840" y="928800"/>
            <a:ext cx="6604200" cy="12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c00000"/>
                </a:solidFill>
                <a:latin typeface="Optima LT Std"/>
                <a:ea typeface="宋体"/>
              </a:rPr>
              <a:t>Balance Sheet Termin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62485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Optima LT Std"/>
                <a:ea typeface="宋体"/>
              </a:rPr>
              <a:t>Current as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Optima LT Std"/>
                <a:ea typeface="宋体"/>
              </a:rPr>
              <a:t>Non</a:t>
            </a:r>
            <a:r>
              <a:rPr b="0" lang="en-US" sz="3200" spc="-1" strike="noStrike">
                <a:solidFill>
                  <a:srgbClr val="000000"/>
                </a:solidFill>
                <a:latin typeface="Optima LT Std"/>
                <a:ea typeface="宋体"/>
              </a:rPr>
              <a:t> </a:t>
            </a:r>
            <a:r>
              <a:rPr b="0" lang="en-AU" sz="3200" spc="-1" strike="noStrike">
                <a:solidFill>
                  <a:srgbClr val="000000"/>
                </a:solidFill>
                <a:latin typeface="Optima LT Std"/>
                <a:ea typeface="宋体"/>
              </a:rPr>
              <a:t>Current As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Optima LT Std"/>
                <a:ea typeface="宋体"/>
              </a:rPr>
              <a:t>Current Li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Optima LT Std"/>
                <a:ea typeface="宋体"/>
              </a:rPr>
              <a:t>Non Current Li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Optima LT Std"/>
                <a:ea typeface="宋体"/>
              </a:rPr>
              <a:t>Equ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 LT Std"/>
                <a:ea typeface="宋体"/>
              </a:rPr>
              <a:t>Deprec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F1840-9A6F-40AB-9C9E-C80EA6D0EBB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14280" y="571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Optima LT Std"/>
                <a:ea typeface="宋体"/>
              </a:rPr>
              <a:t>The Key Financial Stat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00000" y="1773000"/>
            <a:ext cx="78868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990099"/>
                </a:solidFill>
                <a:uFillTx/>
                <a:latin typeface="Optima LT Std"/>
                <a:ea typeface="宋体"/>
              </a:rPr>
              <a:t>Cash Flow Sta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Optima LT Std"/>
                <a:ea typeface="宋体"/>
              </a:rPr>
              <a:t>Answers the question</a:t>
            </a:r>
            <a:r>
              <a:rPr b="0" lang="en-GB" sz="3200" spc="-1" strike="noStrike">
                <a:solidFill>
                  <a:srgbClr val="990099"/>
                </a:solidFill>
                <a:latin typeface="Optima LT Std"/>
                <a:ea typeface="宋体"/>
              </a:rPr>
              <a:t> -  “</a:t>
            </a:r>
            <a:r>
              <a:rPr b="0" i="1" lang="en-GB" sz="3200" spc="-1" strike="noStrike">
                <a:solidFill>
                  <a:srgbClr val="990099"/>
                </a:solidFill>
                <a:latin typeface="Optima LT Std"/>
                <a:ea typeface="宋体"/>
              </a:rPr>
              <a:t>What happen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90099"/>
                </a:solidFill>
                <a:latin typeface="Optima LT Std"/>
                <a:ea typeface="宋体"/>
              </a:rPr>
              <a:t>the cash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Optima LT Std"/>
                <a:ea typeface="宋体"/>
              </a:rPr>
              <a:t>Shows the funds received by a 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Optima LT Std"/>
                <a:ea typeface="宋体"/>
              </a:rPr>
              <a:t>during an accounting period, and the 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Optima LT Std"/>
                <a:ea typeface="宋体"/>
              </a:rPr>
              <a:t>in which those funds have been u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5EFF3-D8EC-4889-A37D-F15815F0138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42640" y="713880"/>
            <a:ext cx="664380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c00000"/>
                </a:solidFill>
                <a:latin typeface="Optima LT Std"/>
                <a:ea typeface="宋体"/>
              </a:rPr>
              <a:t>Cash Flow Stat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440" y="2276640"/>
            <a:ext cx="7728120" cy="359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620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Optima LT Std"/>
                <a:ea typeface="宋体"/>
              </a:rPr>
              <a:t>Cash from/f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Optima LT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Optima LT Std"/>
                <a:ea typeface="宋体"/>
              </a:rPr>
              <a:t>Operating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Optima LT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Optima LT Std"/>
                <a:ea typeface="宋体"/>
              </a:rPr>
              <a:t>Investing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Optima LT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Optima LT Std"/>
                <a:ea typeface="宋体"/>
              </a:rPr>
              <a:t>Financing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DA8EE-15D6-4B94-AB14-89C33761765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68360" y="2133360"/>
            <a:ext cx="518328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Optima LT Std"/>
                <a:ea typeface="宋体"/>
              </a:rPr>
              <a:t>Cash Accounting versus </a:t>
            </a:r>
            <a:br>
              <a:rPr sz="4400"/>
            </a:br>
            <a:r>
              <a:rPr b="0" lang="en-AU" sz="4400" spc="-1" strike="noStrike">
                <a:solidFill>
                  <a:srgbClr val="000000"/>
                </a:solidFill>
                <a:latin typeface="Optima LT Std"/>
                <a:ea typeface="宋体"/>
              </a:rPr>
              <a:t>Accrual Accoun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4" descr="RDUNC146"/>
          <p:cNvPicPr/>
          <p:nvPr/>
        </p:nvPicPr>
        <p:blipFill>
          <a:blip r:embed="rId1"/>
          <a:stretch/>
        </p:blipFill>
        <p:spPr>
          <a:xfrm>
            <a:off x="5286240" y="857160"/>
            <a:ext cx="351504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0B7BF-EF70-4104-8269-1D6D0260680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Optima LT Std"/>
                <a:ea typeface="宋体"/>
              </a:rPr>
              <a:t>Cash Accounting versus </a:t>
            </a:r>
            <a:br>
              <a:rPr sz="3600"/>
            </a:br>
            <a:r>
              <a:rPr b="0" lang="en-AU" sz="3600" spc="-1" strike="noStrike">
                <a:solidFill>
                  <a:srgbClr val="000000"/>
                </a:solidFill>
                <a:latin typeface="Optima LT Std"/>
                <a:ea typeface="宋体"/>
              </a:rPr>
              <a:t>Accrual Accoun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440" y="2357280"/>
            <a:ext cx="7558200" cy="35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620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cc3300"/>
                </a:solidFill>
                <a:latin typeface="Optima LT Std"/>
                <a:ea typeface="宋体"/>
              </a:rPr>
              <a:t>Cash Accou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Font typeface="Optima LT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Optima LT Std"/>
                <a:ea typeface="宋体"/>
              </a:rPr>
              <a:t>Recei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Font typeface="Optima LT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Optima LT Std"/>
                <a:ea typeface="宋体"/>
              </a:rPr>
              <a:t>Pay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8" descr="MPj04028400000[1]"/>
          <p:cNvPicPr/>
          <p:nvPr/>
        </p:nvPicPr>
        <p:blipFill>
          <a:blip r:embed="rId1"/>
          <a:stretch/>
        </p:blipFill>
        <p:spPr>
          <a:xfrm>
            <a:off x="4211640" y="2421000"/>
            <a:ext cx="458964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C4B81-FBAC-4134-8F11-6C0257BFBDD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642600" y="1285920"/>
            <a:ext cx="76280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3840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cc3300"/>
                </a:solidFill>
                <a:latin typeface="Optima LT Std"/>
                <a:ea typeface="宋体"/>
              </a:rPr>
              <a:t>Accrual Accou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400" indent="-33840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Font typeface="Optima LT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Optima LT Std"/>
                <a:ea typeface="宋体"/>
              </a:rPr>
              <a:t>Revenues and Expenses – matc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400" indent="-33840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Font typeface="Optima LT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Optima LT Std"/>
                <a:ea typeface="宋体"/>
              </a:rPr>
              <a:t>As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400" indent="-33840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Font typeface="Optima LT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Optima LT Std"/>
                <a:ea typeface="宋体"/>
              </a:rPr>
              <a:t>Li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40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40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Optima LT Std"/>
                <a:ea typeface="宋体"/>
              </a:rPr>
              <a:t>What are the items in your projects wh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40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Optima LT Std"/>
                <a:ea typeface="宋体"/>
              </a:rPr>
              <a:t>would show the most significant difference 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40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Optima LT Std"/>
                <a:ea typeface="宋体"/>
              </a:rPr>
              <a:t>they were accounted for on a cash basis ra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40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Optima LT Std"/>
                <a:ea typeface="宋体"/>
              </a:rPr>
              <a:t>than an accruals bas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40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-14292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AU" sz="3600" spc="-1" strike="noStrike">
                <a:solidFill>
                  <a:srgbClr val="c00000"/>
                </a:solidFill>
                <a:latin typeface="Optima LT Std"/>
                <a:ea typeface="宋体"/>
              </a:rPr>
              <a:t>Topic 2  </a:t>
            </a:r>
            <a:br>
              <a:rPr sz="3600"/>
            </a:br>
            <a:r>
              <a:rPr b="0" lang="en-AU" sz="3600" spc="-1" strike="noStrike">
                <a:solidFill>
                  <a:srgbClr val="c00000"/>
                </a:solidFill>
                <a:latin typeface="Optima LT Std"/>
                <a:ea typeface="宋体"/>
              </a:rPr>
              <a:t>Cos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28760" y="2660400"/>
            <a:ext cx="840096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 LT Std"/>
                <a:ea typeface="宋体"/>
              </a:rPr>
              <a:t>Using the Project Case Study example, list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 LT Std"/>
                <a:ea typeface="宋体"/>
              </a:rPr>
              <a:t>the costs which you would need to incl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 LT Std"/>
                <a:ea typeface="宋体"/>
              </a:rPr>
              <a:t>when costing your Grant Appl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Optima LT Std"/>
                <a:ea typeface="宋体"/>
              </a:rPr>
              <a:t>( No numbers needed – just the cost descri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66D48-7123-41B6-A52D-4FC8A4CD10C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28800" y="928440"/>
            <a:ext cx="675792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c00000"/>
                </a:solidFill>
                <a:latin typeface="Optima LT Std"/>
                <a:ea typeface="宋体"/>
              </a:rPr>
              <a:t>Understanding Cost Behavi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56760" y="2143080"/>
            <a:ext cx="854388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Optima LT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Optima LT Std"/>
                <a:ea typeface="宋体"/>
              </a:rPr>
              <a:t>A change in the level or ‘volume’ of an activity is likely to result in a change in the cost of that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Optima LT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Optima LT Std"/>
                <a:ea typeface="宋体"/>
              </a:rPr>
              <a:t>Different cost elements will respond in different way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Optima LT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Optima LT Std"/>
                <a:ea typeface="宋体"/>
              </a:rPr>
              <a:t>The key concepts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Optima LT St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Optima LT Std"/>
                <a:ea typeface="宋体"/>
              </a:rPr>
              <a:t>Fixed </a:t>
            </a:r>
            <a:r>
              <a:rPr b="0" lang="en-AU" sz="2400" spc="-1" strike="noStrike">
                <a:solidFill>
                  <a:srgbClr val="000000"/>
                </a:solidFill>
                <a:latin typeface="Optima LT Std"/>
                <a:ea typeface="宋体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Optima LT St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Optima LT Std"/>
                <a:ea typeface="宋体"/>
              </a:rPr>
              <a:t>Variable</a:t>
            </a:r>
            <a:r>
              <a:rPr b="0" lang="en-AU" sz="2400" spc="-1" strike="noStrike">
                <a:solidFill>
                  <a:srgbClr val="000000"/>
                </a:solidFill>
                <a:latin typeface="Optima LT Std"/>
                <a:ea typeface="宋体"/>
              </a:rPr>
              <a:t> cost,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Optima LT St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Optima LT Std"/>
                <a:ea typeface="宋体"/>
              </a:rPr>
              <a:t>Total</a:t>
            </a:r>
            <a:r>
              <a:rPr b="0" lang="en-AU" sz="2400" spc="-1" strike="noStrike">
                <a:solidFill>
                  <a:srgbClr val="000000"/>
                </a:solidFill>
                <a:latin typeface="Optima LT Std"/>
                <a:ea typeface="宋体"/>
              </a:rPr>
              <a:t>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71680" y="928440"/>
            <a:ext cx="721008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99"/>
                </a:solidFill>
                <a:latin typeface="Optima LT Std"/>
                <a:ea typeface="宋体"/>
              </a:rPr>
              <a:t>Melbourne University Costing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13880" y="2104560"/>
            <a:ext cx="82155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0">
              <a:lnSpc>
                <a:spcPct val="150000"/>
              </a:lnSpc>
              <a:spcBef>
                <a:spcPts val="8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cc0000"/>
                </a:solidFill>
                <a:latin typeface="Optima LT Std"/>
                <a:ea typeface="宋体"/>
              </a:rPr>
              <a:t>Not all costs are allocated to the pro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15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Optima LT Std"/>
                <a:ea typeface="宋体"/>
              </a:rPr>
              <a:t>So to understand the true cost of the project, identif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50000"/>
              </a:lnSpc>
              <a:buClr>
                <a:srgbClr val="c00000"/>
              </a:buClr>
              <a:buFont typeface="Optima LT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c00000"/>
                </a:solidFill>
                <a:latin typeface="Optima LT Std"/>
                <a:ea typeface="宋体"/>
              </a:rPr>
              <a:t>Direct</a:t>
            </a:r>
            <a:r>
              <a:rPr b="0" lang="en-AU" sz="2800" spc="-1" strike="noStrike">
                <a:solidFill>
                  <a:srgbClr val="000000"/>
                </a:solidFill>
                <a:latin typeface="Optima LT Std"/>
                <a:ea typeface="宋体"/>
              </a:rPr>
              <a:t> Costs of the Project,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50000"/>
              </a:lnSpc>
              <a:buClr>
                <a:srgbClr val="000000"/>
              </a:buClr>
              <a:buFont typeface="Optima LT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Optima LT Std"/>
                <a:ea typeface="宋体"/>
              </a:rPr>
              <a:t>Be aware of all the </a:t>
            </a:r>
            <a:r>
              <a:rPr b="0" lang="en-AU" sz="2800" spc="-1" strike="noStrike">
                <a:solidFill>
                  <a:srgbClr val="c00000"/>
                </a:solidFill>
                <a:latin typeface="Optima LT Std"/>
                <a:ea typeface="宋体"/>
              </a:rPr>
              <a:t>Indirect</a:t>
            </a:r>
            <a:r>
              <a:rPr b="0" lang="en-AU" sz="2800" spc="-1" strike="noStrike">
                <a:solidFill>
                  <a:srgbClr val="000000"/>
                </a:solidFill>
                <a:latin typeface="Optima LT Std"/>
                <a:ea typeface="宋体"/>
              </a:rPr>
              <a:t>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Optima LT Std"/>
                <a:ea typeface="宋体"/>
              </a:rPr>
              <a:t>Which are the costs for which are you likely to rece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Optima LT Std"/>
                <a:ea typeface="宋体"/>
              </a:rPr>
              <a:t>fund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85520" y="64260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Optima LT Std"/>
                <a:ea typeface="宋体"/>
              </a:rPr>
              <a:t>Objectives for this Worksh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500040" y="20718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Optima LT Std"/>
                <a:ea typeface="宋体"/>
              </a:rPr>
              <a:t>To enable you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Optima LT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Optima LT Std"/>
                <a:ea typeface="宋体"/>
              </a:rPr>
              <a:t>Reinforce your understanding of the basic principles of financial management in particular in relation to cost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Optima LT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Optima LT Std"/>
                <a:ea typeface="宋体"/>
              </a:rPr>
              <a:t>Relate the online generic materials to your home university practices,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Optima LT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Optima LT Std"/>
                <a:ea typeface="宋体"/>
              </a:rPr>
              <a:t>Share experiences and best practice with colleag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Optima LT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56800" y="857160"/>
            <a:ext cx="71262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Optima LT Std"/>
                <a:ea typeface="宋体"/>
              </a:rPr>
              <a:t>Group Discussion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71320" y="1999800"/>
            <a:ext cx="70722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 LT Std"/>
                <a:ea typeface="宋体"/>
              </a:rPr>
              <a:t>Given that we have not been granted the fu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 LT Std"/>
                <a:ea typeface="宋体"/>
              </a:rPr>
              <a:t>amount reque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Optima LT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 LT Std"/>
                <a:ea typeface="宋体"/>
              </a:rPr>
              <a:t>What costs could be reduced or eliminated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Optima LT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 LT Std"/>
                <a:ea typeface="宋体"/>
              </a:rPr>
              <a:t>What extra funding could be resourc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4" descr="j0395715"/>
          <p:cNvPicPr/>
          <p:nvPr/>
        </p:nvPicPr>
        <p:blipFill>
          <a:blip r:embed="rId1"/>
          <a:stretch/>
        </p:blipFill>
        <p:spPr>
          <a:xfrm>
            <a:off x="7593120" y="5286240"/>
            <a:ext cx="1292040" cy="13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3" descr="Budget Pie"/>
          <p:cNvPicPr/>
          <p:nvPr/>
        </p:nvPicPr>
        <p:blipFill>
          <a:blip r:embed="rId1"/>
          <a:stretch/>
        </p:blipFill>
        <p:spPr>
          <a:xfrm>
            <a:off x="2428920" y="2643120"/>
            <a:ext cx="4824360" cy="3784680"/>
          </a:xfrm>
          <a:prstGeom prst="rect">
            <a:avLst/>
          </a:prstGeom>
          <a:ln w="0">
            <a:noFill/>
          </a:ln>
        </p:spPr>
      </p:pic>
      <p:sp>
        <p:nvSpPr>
          <p:cNvPr id="352" name="Rectangle 2"/>
          <p:cNvSpPr/>
          <p:nvPr/>
        </p:nvSpPr>
        <p:spPr>
          <a:xfrm>
            <a:off x="285840" y="1143000"/>
            <a:ext cx="828684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opic 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Preparing and Managing Budg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500120" y="713880"/>
            <a:ext cx="4786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Optima LT Std"/>
                <a:ea typeface="宋体"/>
              </a:rPr>
              <a:t>Purposes of a Bud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0728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Optima LT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 LT Std"/>
                <a:ea typeface="宋体"/>
              </a:rPr>
              <a:t>Sets a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Optima LT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 LT Std"/>
                <a:ea typeface="宋体"/>
              </a:rPr>
              <a:t>Allows Planning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 LT Std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Optima LT Std"/>
                <a:ea typeface="宋体"/>
              </a:rPr>
              <a:t>Coord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Optima LT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 LT Std"/>
                <a:ea typeface="宋体"/>
              </a:rPr>
              <a:t>Allocates Resources – often sca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Optima LT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Optima LT Std"/>
                <a:ea typeface="宋体"/>
              </a:rPr>
              <a:t>Allows Review, Monitoring and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Optima LT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 LT Std"/>
                <a:ea typeface="宋体"/>
              </a:rPr>
              <a:t>Can Identify Problem Areas ea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Optima LT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 LT Std"/>
                <a:ea typeface="宋体"/>
              </a:rPr>
              <a:t>Assigns Responsibility and Accoun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4" descr="CMENO031"/>
          <p:cNvPicPr/>
          <p:nvPr/>
        </p:nvPicPr>
        <p:blipFill>
          <a:blip r:embed="rId1"/>
          <a:stretch/>
        </p:blipFill>
        <p:spPr>
          <a:xfrm flipH="1">
            <a:off x="6143400" y="857160"/>
            <a:ext cx="2786040" cy="46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214360" y="620640"/>
            <a:ext cx="47336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3200" spc="-1" strike="noStrike">
                <a:solidFill>
                  <a:srgbClr val="cc3300"/>
                </a:solidFill>
                <a:latin typeface="Optima LT Std"/>
                <a:ea typeface="宋体"/>
              </a:rPr>
              <a:t>What can go Wro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763272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50280" indent="-350280">
              <a:lnSpc>
                <a:spcPct val="70000"/>
              </a:lnSpc>
              <a:buClr>
                <a:srgbClr val="000000"/>
              </a:buClr>
              <a:buFont typeface="Optima LT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 LT Std"/>
                <a:ea typeface="宋体"/>
              </a:rPr>
              <a:t>Budget Figures Over/Underst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0280" indent="0">
              <a:lnSpc>
                <a:spcPct val="7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0280" indent="-350280">
              <a:lnSpc>
                <a:spcPct val="70000"/>
              </a:lnSpc>
              <a:buClr>
                <a:srgbClr val="000000"/>
              </a:buClr>
              <a:buFont typeface="Optima LT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 LT Std"/>
                <a:ea typeface="宋体"/>
              </a:rPr>
              <a:t>Lack of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0280" indent="0">
              <a:lnSpc>
                <a:spcPct val="7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0280" indent="-350280">
              <a:lnSpc>
                <a:spcPct val="70000"/>
              </a:lnSpc>
              <a:buClr>
                <a:srgbClr val="000000"/>
              </a:buClr>
              <a:buFont typeface="Optima LT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 LT Std"/>
                <a:ea typeface="宋体"/>
              </a:rPr>
              <a:t>No Own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0280" indent="0">
              <a:lnSpc>
                <a:spcPct val="7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0280" indent="-350280">
              <a:lnSpc>
                <a:spcPct val="70000"/>
              </a:lnSpc>
              <a:buClr>
                <a:srgbClr val="000000"/>
              </a:buClr>
              <a:buFont typeface="Optima LT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 LT Std"/>
                <a:ea typeface="宋体"/>
              </a:rPr>
              <a:t>Conflicting bu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0280" indent="0">
              <a:lnSpc>
                <a:spcPct val="7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0280" indent="-350280">
              <a:lnSpc>
                <a:spcPct val="70000"/>
              </a:lnSpc>
              <a:buClr>
                <a:srgbClr val="000000"/>
              </a:buClr>
              <a:buFont typeface="Optima LT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 LT Std"/>
                <a:ea typeface="宋体"/>
              </a:rPr>
              <a:t>Additional costs due to inaccurate foreca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0280" indent="0">
              <a:lnSpc>
                <a:spcPct val="7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0280" indent="-350280">
              <a:lnSpc>
                <a:spcPct val="70000"/>
              </a:lnSpc>
              <a:buClr>
                <a:srgbClr val="000000"/>
              </a:buClr>
              <a:buFont typeface="Optima LT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 LT Std"/>
                <a:ea typeface="宋体"/>
              </a:rPr>
              <a:t>Lack of proper moni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0280" indent="0">
              <a:lnSpc>
                <a:spcPct val="7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0280" indent="-350280">
              <a:lnSpc>
                <a:spcPct val="70000"/>
              </a:lnSpc>
              <a:buClr>
                <a:srgbClr val="000000"/>
              </a:buClr>
              <a:buFont typeface="Optima LT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 LT Std"/>
                <a:ea typeface="宋体"/>
              </a:rPr>
              <a:t>Lack of corrective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8" name="Object 2"/>
          <p:cNvGraphicFramePr/>
          <p:nvPr/>
        </p:nvGraphicFramePr>
        <p:xfrm>
          <a:off x="7572240" y="1000080"/>
          <a:ext cx="1257480" cy="465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72240" y="1000080"/>
                    <a:ext cx="1257480" cy="46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747D6-E713-4643-9EA2-3EF000DBE34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2"/>
          <p:cNvSpPr/>
          <p:nvPr/>
        </p:nvSpPr>
        <p:spPr>
          <a:xfrm>
            <a:off x="3924360" y="569880"/>
            <a:ext cx="2635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3"/>
          <p:cNvSpPr/>
          <p:nvPr/>
        </p:nvSpPr>
        <p:spPr>
          <a:xfrm>
            <a:off x="142920" y="2357280"/>
            <a:ext cx="712944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5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im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ompare Actual to 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dentify Variances -  Give Rea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ction to be taken – By whom/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4"/>
          <p:cNvSpPr/>
          <p:nvPr/>
        </p:nvSpPr>
        <p:spPr>
          <a:xfrm>
            <a:off x="857160" y="107172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99"/>
                </a:solidFill>
                <a:latin typeface="Arial"/>
                <a:ea typeface="宋体"/>
              </a:rPr>
              <a:t>Timing and Nature of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5" descr="MCj01570170000[1]"/>
          <p:cNvPicPr/>
          <p:nvPr/>
        </p:nvPicPr>
        <p:blipFill>
          <a:blip r:embed="rId1"/>
          <a:stretch/>
        </p:blipFill>
        <p:spPr>
          <a:xfrm>
            <a:off x="5940360" y="3429000"/>
            <a:ext cx="29671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1071720" y="1285920"/>
            <a:ext cx="5786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opic 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Risk Assessment and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9" descr="C:\Documents and Settings\Cherry Birch\Local Settings\Temporary Internet Files\Content.IE5\EZM770O1\MCBD06993_0000[1].wmf"/>
          <p:cNvPicPr/>
          <p:nvPr/>
        </p:nvPicPr>
        <p:blipFill>
          <a:blip r:embed="rId1"/>
          <a:stretch/>
        </p:blipFill>
        <p:spPr>
          <a:xfrm>
            <a:off x="2071800" y="3000240"/>
            <a:ext cx="3786120" cy="36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56800" y="571320"/>
            <a:ext cx="735804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cc3300"/>
                </a:solidFill>
                <a:latin typeface="Optima LT Std"/>
                <a:ea typeface="宋体"/>
              </a:rPr>
              <a:t>Risk assessment and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5" descr=""/>
          <p:cNvPicPr/>
          <p:nvPr/>
        </p:nvPicPr>
        <p:blipFill>
          <a:blip r:embed="rId1"/>
          <a:stretch/>
        </p:blipFill>
        <p:spPr>
          <a:xfrm>
            <a:off x="2071800" y="1643040"/>
            <a:ext cx="45878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5" descr="risk_matrix"/>
          <p:cNvPicPr/>
          <p:nvPr/>
        </p:nvPicPr>
        <p:blipFill>
          <a:blip r:embed="rId1"/>
          <a:stretch/>
        </p:blipFill>
        <p:spPr>
          <a:xfrm>
            <a:off x="1428840" y="1643040"/>
            <a:ext cx="5329080" cy="4968720"/>
          </a:xfrm>
          <a:prstGeom prst="rect">
            <a:avLst/>
          </a:prstGeom>
          <a:ln w="0">
            <a:noFill/>
          </a:ln>
        </p:spPr>
      </p:pic>
      <p:sp>
        <p:nvSpPr>
          <p:cNvPr id="370" name="Rectangle 5"/>
          <p:cNvSpPr/>
          <p:nvPr/>
        </p:nvSpPr>
        <p:spPr>
          <a:xfrm>
            <a:off x="2500200" y="857160"/>
            <a:ext cx="492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6b6bcf"/>
                </a:solidFill>
                <a:latin typeface="Arial"/>
              </a:rPr>
              <a:t>Risk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5"/>
          <p:cNvSpPr/>
          <p:nvPr/>
        </p:nvSpPr>
        <p:spPr>
          <a:xfrm>
            <a:off x="2000160" y="1071720"/>
            <a:ext cx="492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6b6bcf"/>
                </a:solidFill>
                <a:latin typeface="Arial"/>
              </a:rPr>
              <a:t>Internal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214308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 LT Std"/>
                <a:ea typeface="宋体"/>
              </a:rPr>
              <a:t>Internal control is concerned with the protection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 LT Std"/>
                <a:ea typeface="宋体"/>
              </a:rPr>
              <a:t>university assets and revenue, the accu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 LT Std"/>
                <a:ea typeface="宋体"/>
              </a:rPr>
              <a:t>recording of transactions and the classification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 LT Std"/>
                <a:ea typeface="宋体"/>
              </a:rPr>
              <a:t>control of expe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3" descr="C:\Documents and Settings\Cherry Birch\Local Settings\Temporary Internet Files\Content.IE5\CNANPAX3\MCj04347030000[1].wmf"/>
          <p:cNvPicPr/>
          <p:nvPr/>
        </p:nvPicPr>
        <p:blipFill>
          <a:blip r:embed="rId1"/>
          <a:stretch/>
        </p:blipFill>
        <p:spPr>
          <a:xfrm>
            <a:off x="3429000" y="4500720"/>
            <a:ext cx="191448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5"/>
          <p:cNvSpPr/>
          <p:nvPr/>
        </p:nvSpPr>
        <p:spPr>
          <a:xfrm>
            <a:off x="1643040" y="714240"/>
            <a:ext cx="62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c00000"/>
                </a:solidFill>
                <a:latin typeface="Arial"/>
              </a:rPr>
              <a:t>Types of Internal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28760" y="1500120"/>
            <a:ext cx="850104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22268"/>
              </a:buClr>
              <a:buFont typeface="Optima LT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68"/>
                </a:solidFill>
                <a:latin typeface="Optima LT Std"/>
                <a:ea typeface="宋体"/>
              </a:rPr>
              <a:t>Organ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22268"/>
              </a:buClr>
              <a:buFont typeface="Optima LT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68"/>
                </a:solidFill>
                <a:latin typeface="Optima LT Std"/>
                <a:ea typeface="宋体"/>
              </a:rPr>
              <a:t>Segregation of Du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22268"/>
              </a:buClr>
              <a:buFont typeface="Optima LT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68"/>
                </a:solidFill>
                <a:latin typeface="Optima LT Std"/>
                <a:ea typeface="宋体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22268"/>
              </a:buClr>
              <a:buFont typeface="Optima LT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68"/>
                </a:solidFill>
                <a:latin typeface="Optima LT Std"/>
                <a:ea typeface="宋体"/>
              </a:rPr>
              <a:t>Authorisation and Appro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22268"/>
              </a:buClr>
              <a:buFont typeface="Optima LT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68"/>
                </a:solidFill>
                <a:latin typeface="Optima LT Std"/>
                <a:ea typeface="宋体"/>
              </a:rPr>
              <a:t>Arithmetical and accu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22268"/>
              </a:buClr>
              <a:buFont typeface="Optima LT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68"/>
                </a:solidFill>
                <a:latin typeface="Optima LT Std"/>
                <a:ea typeface="宋体"/>
              </a:rPr>
              <a:t>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22268"/>
              </a:buClr>
              <a:buFont typeface="Optima LT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68"/>
                </a:solidFill>
                <a:latin typeface="Optima LT Std"/>
                <a:ea typeface="宋体"/>
              </a:rPr>
              <a:t>Super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22268"/>
              </a:buClr>
              <a:buFont typeface="Optima LT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68"/>
                </a:solidFill>
                <a:latin typeface="Optima LT Std"/>
                <a:ea typeface="宋体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Optima LT Std"/>
                <a:ea typeface="宋体"/>
              </a:rPr>
              <a:t>What internal controls are appropriate to your projects and how might these work in practi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6" descr="C:\Documents and Settings\Cherry Birch\Local Settings\Temporary Internet Files\Content.IE5\X6BE5DZT\MCBD05078_0000[1].wmf"/>
          <p:cNvPicPr/>
          <p:nvPr/>
        </p:nvPicPr>
        <p:blipFill>
          <a:blip r:embed="rId1"/>
          <a:stretch/>
        </p:blipFill>
        <p:spPr>
          <a:xfrm>
            <a:off x="4929120" y="1857240"/>
            <a:ext cx="3444840" cy="32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56840" y="785520"/>
            <a:ext cx="6458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Optima LT Std"/>
                <a:ea typeface="宋体"/>
              </a:rPr>
              <a:t>Introductions – One minute plea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128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Optima LT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Optima LT Std"/>
                <a:ea typeface="宋体"/>
              </a:rPr>
              <a:t>Name and Ro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Optima LT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Optima LT Std"/>
                <a:ea typeface="宋体"/>
              </a:rPr>
              <a:t>Existing financial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Optima LT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9999"/>
                </a:solidFill>
                <a:latin typeface="Optima LT Std"/>
                <a:ea typeface="宋体"/>
              </a:rPr>
              <a:t>Something about you which we could not tell by just looking at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Optima LT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cc0000"/>
                </a:solidFill>
                <a:latin typeface="Optima LT Std"/>
                <a:ea typeface="宋体"/>
              </a:rPr>
              <a:t>N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3929040" y="2643120"/>
            <a:ext cx="5000760" cy="11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opic 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inancial Reporting for Audit Purpo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3" descr="C:\Documents and Settings\Cherry Birch\Local Settings\Temporary Internet Files\Content.IE5\CNANPAX3\MPj04224580000[1].jpg"/>
          <p:cNvPicPr/>
          <p:nvPr/>
        </p:nvPicPr>
        <p:blipFill>
          <a:blip r:embed="rId1"/>
          <a:stretch/>
        </p:blipFill>
        <p:spPr>
          <a:xfrm>
            <a:off x="785880" y="2357280"/>
            <a:ext cx="3119400" cy="39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2"/>
          <p:cNvSpPr/>
          <p:nvPr/>
        </p:nvSpPr>
        <p:spPr>
          <a:xfrm>
            <a:off x="1571760" y="1000080"/>
            <a:ext cx="5786280" cy="12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ctual versus Bud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4"/>
          <p:cNvSpPr/>
          <p:nvPr/>
        </p:nvSpPr>
        <p:spPr>
          <a:xfrm>
            <a:off x="857160" y="1714680"/>
            <a:ext cx="79297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eview the actual expenditure to date and answer the follow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o you understand each li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s the expenditure allowed for in the gr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Which items would you want analysed furth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Which variances are due to volume, price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iming varian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1143000" y="1571760"/>
            <a:ext cx="55008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cquitt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4"/>
          <p:cNvSpPr/>
          <p:nvPr/>
        </p:nvSpPr>
        <p:spPr>
          <a:xfrm>
            <a:off x="142920" y="3286080"/>
            <a:ext cx="5572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What can go wrong at this sta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5" descr="C:\Documents and Settings\Cherry Birch\Local Settings\Temporary Internet Files\Content.IE5\EZM770O1\MCBS00602_0000[1].wmf"/>
          <p:cNvPicPr/>
          <p:nvPr/>
        </p:nvPicPr>
        <p:blipFill>
          <a:blip r:embed="rId1"/>
          <a:stretch/>
        </p:blipFill>
        <p:spPr>
          <a:xfrm>
            <a:off x="5572080" y="3357720"/>
            <a:ext cx="3297240" cy="28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85560" y="2642760"/>
            <a:ext cx="3786120" cy="23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Optima LT Std"/>
                <a:ea typeface="宋体"/>
              </a:rPr>
              <a:t>Summary and </a:t>
            </a:r>
            <a:br>
              <a:rPr sz="4800"/>
            </a:br>
            <a:r>
              <a:rPr b="1" lang="en-US" sz="4800" spc="-1" strike="noStrike">
                <a:solidFill>
                  <a:srgbClr val="cc0000"/>
                </a:solidFill>
                <a:latin typeface="Optima LT Std"/>
                <a:ea typeface="宋体"/>
              </a:rPr>
              <a:t>Conclus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3" descr="CMEN087"/>
          <p:cNvPicPr/>
          <p:nvPr/>
        </p:nvPicPr>
        <p:blipFill>
          <a:blip r:embed="rId1"/>
          <a:stretch/>
        </p:blipFill>
        <p:spPr>
          <a:xfrm>
            <a:off x="5651640" y="1052640"/>
            <a:ext cx="324792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785880" y="1999800"/>
            <a:ext cx="70308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Optima LT Std"/>
                <a:ea typeface="宋体"/>
              </a:rPr>
              <a:t>Strong Financial management is vital for every pro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Optima LT St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Optima LT Std"/>
                <a:ea typeface="宋体"/>
              </a:rPr>
              <a:t>Start with clear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Optima LT St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Optima LT Std"/>
                <a:ea typeface="宋体"/>
              </a:rPr>
              <a:t>Set the key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Optima LT St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Optima LT Std"/>
                <a:ea typeface="宋体"/>
              </a:rPr>
              <a:t>Plan towards, and assess performance against, those key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Optima LT Std"/>
                <a:ea typeface="宋体"/>
              </a:rPr>
              <a:t>Understanding the language of finance, </a:t>
            </a:r>
            <a:r>
              <a:rPr b="0" lang="en-US" sz="2400" spc="-1" strike="noStrike">
                <a:solidFill>
                  <a:srgbClr val="000000"/>
                </a:solidFill>
                <a:latin typeface="Optima LT Std"/>
                <a:ea typeface="宋体"/>
              </a:rPr>
              <a:t>and ha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Optima LT Std"/>
                <a:ea typeface="宋体"/>
              </a:rPr>
              <a:t>the skills to perform basic financial analysis, </a:t>
            </a:r>
            <a:r>
              <a:rPr b="0" lang="en-US" sz="2400" spc="-1" strike="noStrike">
                <a:solidFill>
                  <a:srgbClr val="000000"/>
                </a:solidFill>
                <a:latin typeface="Optima LT Std"/>
                <a:ea typeface="宋体"/>
              </a:rPr>
              <a:t>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Optima LT Std"/>
                <a:ea typeface="宋体"/>
              </a:rPr>
              <a:t>critical steps</a:t>
            </a:r>
            <a:r>
              <a:rPr b="0" lang="en-US" sz="2400" spc="-1" strike="noStrike">
                <a:solidFill>
                  <a:srgbClr val="000000"/>
                </a:solidFill>
                <a:latin typeface="Optima LT Std"/>
                <a:ea typeface="宋体"/>
              </a:rPr>
              <a:t> towards a successful pro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2"/>
          <p:cNvSpPr/>
          <p:nvPr/>
        </p:nvSpPr>
        <p:spPr>
          <a:xfrm>
            <a:off x="214200" y="928800"/>
            <a:ext cx="8229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Optima LT Std"/>
                <a:ea typeface="宋体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999800" y="500040"/>
            <a:ext cx="54514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9999"/>
                </a:solidFill>
                <a:latin typeface="Optima LT Std"/>
                <a:ea typeface="宋体"/>
              </a:rPr>
              <a:t>Setting the Sce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10920" y="1857240"/>
            <a:ext cx="830412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Optima LT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 LT Std"/>
                <a:ea typeface="宋体"/>
              </a:rPr>
              <a:t>Sharing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Optima LT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 LT Std"/>
                <a:ea typeface="宋体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Optima LT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Optima LT Std"/>
                <a:ea typeface="宋体"/>
              </a:rPr>
              <a:t>Housekeeping – phones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Optima LT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 LT Std"/>
                <a:ea typeface="宋体"/>
              </a:rPr>
              <a:t>Flexibility, feedback and form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9999"/>
                </a:solidFill>
                <a:latin typeface="Optima LT Std"/>
                <a:ea typeface="宋体"/>
              </a:rPr>
              <a:t>Please ask questions at any time</a:t>
            </a:r>
            <a:r>
              <a:rPr b="1" lang="en-AU" sz="2800" spc="-1" strike="noStrike">
                <a:solidFill>
                  <a:srgbClr val="cc0000"/>
                </a:solidFill>
                <a:latin typeface="Optima LT Std"/>
                <a:ea typeface="宋体"/>
              </a:rPr>
              <a:t> – </a:t>
            </a:r>
            <a:r>
              <a:rPr b="1" i="1" lang="en-AU" sz="2800" spc="-1" strike="noStrike">
                <a:solidFill>
                  <a:srgbClr val="cc0000"/>
                </a:solidFill>
                <a:latin typeface="Optima LT Std"/>
                <a:ea typeface="宋体"/>
              </a:rPr>
              <a:t>there is no such thing as a stupid 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57160" y="1428480"/>
            <a:ext cx="6686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c00000"/>
                </a:solidFill>
                <a:latin typeface="Optima LT Std"/>
                <a:ea typeface="宋体"/>
              </a:rPr>
              <a:t>Topic 1</a:t>
            </a:r>
            <a:br>
              <a:rPr sz="3200"/>
            </a:br>
            <a:r>
              <a:rPr b="0" lang="en-AU" sz="3200" spc="-1" strike="noStrike">
                <a:solidFill>
                  <a:srgbClr val="c00000"/>
                </a:solidFill>
                <a:latin typeface="Optima LT Std"/>
                <a:ea typeface="宋体"/>
              </a:rPr>
              <a:t>Understanding financial information and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71320" y="3214440"/>
            <a:ext cx="814356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Optima LT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Optima LT Std"/>
                <a:ea typeface="宋体"/>
              </a:rPr>
              <a:t>Understanding personal fin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Optima LT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Optima LT Std"/>
                <a:ea typeface="宋体"/>
              </a:rPr>
              <a:t>Understanding business fin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Optima LT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Optima LT Std"/>
                <a:ea typeface="宋体"/>
              </a:rPr>
              <a:t>Key financial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Optima LT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Optima LT Std"/>
                <a:ea typeface="宋体"/>
              </a:rPr>
              <a:t>Analysing financial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1442880" y="2666880"/>
            <a:ext cx="3129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9"/>
          <p:cNvSpPr/>
          <p:nvPr/>
        </p:nvSpPr>
        <p:spPr>
          <a:xfrm>
            <a:off x="1332000" y="1413000"/>
            <a:ext cx="3128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00080" y="1642680"/>
            <a:ext cx="6686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AU" sz="3200" spc="-1" strike="noStrike">
                <a:solidFill>
                  <a:srgbClr val="c00000"/>
                </a:solidFill>
                <a:latin typeface="Optima LT Std"/>
                <a:ea typeface="宋体"/>
              </a:rPr>
              <a:t>Understanding financial information and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7"/>
          <p:cNvSpPr/>
          <p:nvPr/>
        </p:nvSpPr>
        <p:spPr>
          <a:xfrm>
            <a:off x="1442880" y="2666880"/>
            <a:ext cx="3129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9"/>
          <p:cNvSpPr/>
          <p:nvPr/>
        </p:nvSpPr>
        <p:spPr>
          <a:xfrm>
            <a:off x="1332000" y="1413000"/>
            <a:ext cx="3128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1571760" y="3786120"/>
            <a:ext cx="618624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Optima LT Std"/>
                <a:ea typeface="宋体"/>
              </a:rPr>
              <a:t>The Typical Family’s Fin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CF6F1-D1A7-4323-A5D6-21677364B9D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85920" y="64260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Optima LT Std"/>
                <a:ea typeface="宋体"/>
              </a:rPr>
              <a:t>The Key Financial Stat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0040" y="1773360"/>
            <a:ext cx="821520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990099"/>
                </a:solidFill>
                <a:uFillTx/>
                <a:latin typeface="Optima LT Std"/>
                <a:ea typeface="宋体"/>
              </a:rPr>
              <a:t>Profit and Loss Account / Income Sta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Optima LT Std"/>
                <a:ea typeface="宋体"/>
              </a:rPr>
              <a:t>Answers the question</a:t>
            </a:r>
            <a:r>
              <a:rPr b="0" lang="en-GB" sz="3200" spc="-1" strike="noStrike">
                <a:solidFill>
                  <a:srgbClr val="990099"/>
                </a:solidFill>
                <a:latin typeface="Optima LT Std"/>
                <a:ea typeface="宋体"/>
              </a:rPr>
              <a:t> – “</a:t>
            </a:r>
            <a:r>
              <a:rPr b="0" i="1" lang="en-GB" sz="3200" spc="-1" strike="noStrike">
                <a:solidFill>
                  <a:srgbClr val="990099"/>
                </a:solidFill>
                <a:latin typeface="Optima LT Std"/>
                <a:ea typeface="宋体"/>
              </a:rPr>
              <a:t>How did we do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Optima LT Std"/>
                <a:ea typeface="宋体"/>
              </a:rPr>
              <a:t>Summarises the revenue and expenses of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Optima LT Std"/>
                <a:ea typeface="宋体"/>
              </a:rPr>
              <a:t>organisation for a period, and shows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Optima LT Std"/>
                <a:ea typeface="宋体"/>
              </a:rPr>
              <a:t>overall profit and loss (Operating Result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18A3A-D7D6-492E-B0D8-D9CBC4E3D05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28440" y="1071360"/>
            <a:ext cx="700092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c00000"/>
                </a:solidFill>
                <a:latin typeface="Optima LT Std"/>
                <a:ea typeface="宋体"/>
              </a:rPr>
              <a:t>Profit and Loss Account/Income Stat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2571840"/>
            <a:ext cx="7802640" cy="329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75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Optima LT Std"/>
                <a:ea typeface="宋体"/>
              </a:rPr>
              <a:t>Revenue – Expens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75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Optima LT Std"/>
                <a:ea typeface="宋体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75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Optima LT Std"/>
                <a:ea typeface="宋体"/>
              </a:rPr>
              <a:t>Net Profit/(Los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75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Optima LT Std"/>
                <a:ea typeface="宋体"/>
              </a:rPr>
              <a:t>(Operating Resul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86D30-00FA-468A-B07E-13C583F7D88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56800" y="64260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Optima LT Std"/>
                <a:ea typeface="宋体"/>
              </a:rPr>
              <a:t>The Key Financial Stat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42960" y="1773000"/>
            <a:ext cx="80344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990099"/>
                </a:solidFill>
                <a:uFillTx/>
                <a:latin typeface="Optima LT Std"/>
                <a:ea typeface="宋体"/>
              </a:rPr>
              <a:t>Balance 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Optima LT Std"/>
                <a:ea typeface="宋体"/>
              </a:rPr>
              <a:t>Answers the question</a:t>
            </a:r>
            <a:r>
              <a:rPr b="0" lang="en-GB" sz="2800" spc="-1" strike="noStrike">
                <a:solidFill>
                  <a:srgbClr val="990099"/>
                </a:solidFill>
                <a:latin typeface="Optima LT Std"/>
                <a:ea typeface="宋体"/>
              </a:rPr>
              <a:t> “</a:t>
            </a:r>
            <a:r>
              <a:rPr b="0" i="1" lang="en-GB" sz="2800" spc="-1" strike="noStrike">
                <a:solidFill>
                  <a:srgbClr val="990099"/>
                </a:solidFill>
                <a:latin typeface="Optima LT Std"/>
                <a:ea typeface="宋体"/>
              </a:rPr>
              <a:t>Where do we stand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Optima LT Std"/>
                <a:ea typeface="宋体"/>
              </a:rPr>
              <a:t>Summarises the sources of funds provided to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Optima LT Std"/>
                <a:ea typeface="宋体"/>
              </a:rPr>
              <a:t>organisation by shareholders and others as at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Optima LT Std"/>
                <a:ea typeface="宋体"/>
              </a:rPr>
              <a:t>particular date, and how those funds have b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Optima LT Std"/>
                <a:ea typeface="宋体"/>
              </a:rPr>
              <a:t>used to invest in fixed/non current assets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Optima LT Std"/>
                <a:ea typeface="宋体"/>
              </a:rPr>
              <a:t>working capi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1T00:36:56Z</dcterms:created>
  <dc:creator>Cherry Birch</dc:creator>
  <dc:description/>
  <dc:language>en-US</dc:language>
  <cp:lastModifiedBy>Maree Magafas</cp:lastModifiedBy>
  <dcterms:modified xsi:type="dcterms:W3CDTF">2010-03-16T04:37:26Z</dcterms:modified>
  <cp:revision>53</cp:revision>
  <dc:subject/>
  <dc:title>Future Research Leaders Program </dc:title>
</cp:coreProperties>
</file>